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5C3-1F32-4079-8332-C68388027E5E}" type="slidenum">
              <a:rPr b="0" lang="es-U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4320" cy="3649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624560"/>
            <a:ext cx="5486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924552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4667-5540-4287-9299-80BA2802C4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FE3-70CA-4883-BB59-E55EA1CC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DAA-6379-4A78-A7FF-509B1FC5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7B8-751E-48C4-9630-046DC0E4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312-C972-4411-A519-6F53BF62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912E-2CA0-47C4-BCD9-66EF2932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8641-7802-419C-8324-44D05E9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13D-AA62-414C-B170-E2CDD465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8BF1-BD6E-403C-97C4-0F51C66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C8C-3FC9-4FBE-BFEA-A521E50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303-9F52-4820-8F03-3A0F67B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8022-1A60-499B-98C7-24BF02B9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5E3-1AB8-4406-AC21-75FD4BCF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51A-C2CB-4A11-AE64-03BD1D9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B87C-42BE-4B6D-87C4-76F3497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DB2-338F-4DFD-BDC6-5800C69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6B1-E9A9-4704-8511-E4221A71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F8E6-DD5D-4E6F-9113-EEE9DB34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F67-5CEE-420D-BE72-51A937D9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516-772D-4736-9D66-091B4D6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D96-EE45-4881-942D-3740422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147-7B4D-4198-977E-FCCDD61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0F3-0496-4D2F-8149-24DD8D8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166-022D-4B7B-92B8-36BC9F0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316-545A-462A-8846-6F66B2D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FBD-3C49-4CEB-BE06-2394372D01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3"/>
          <a:stretch/>
        </p:blipFill>
        <p:spPr>
          <a:xfrm>
            <a:off x="6297480" y="4863960"/>
            <a:ext cx="1212840" cy="9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ndalus"/>
                <a:ea typeface="Andal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ndalus"/>
                <a:ea typeface="Andalus"/>
              </a:rPr>
              <a:t>Stična, 02. okto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F771-0889-41CC-A01F-A72FCFF8D1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ndalus"/>
                <a:ea typeface="Andalus"/>
              </a:rPr>
              <a:t>VAB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Rectangle 5"/>
          <p:cNvGrpSpPr/>
          <p:nvPr/>
        </p:nvGrpSpPr>
        <p:grpSpPr>
          <a:xfrm>
            <a:off x="1189080" y="1268280"/>
            <a:ext cx="6259320" cy="4535640"/>
            <a:chOff x="1189080" y="1268280"/>
            <a:chExt cx="6259320" cy="4535640"/>
          </a:xfrm>
        </p:grpSpPr>
        <p:pic>
          <p:nvPicPr>
            <p:cNvPr id="94" name="Rectangle 5" descr=""/>
            <p:cNvPicPr/>
            <p:nvPr/>
          </p:nvPicPr>
          <p:blipFill>
            <a:blip r:embed="rId1"/>
            <a:stretch/>
          </p:blipFill>
          <p:spPr>
            <a:xfrm>
              <a:off x="1190520" y="1268280"/>
              <a:ext cx="625428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89080" y="1268280"/>
              <a:ext cx="625932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bava, smeh in razveseljevanje bližnjih večajo življenjsko sreč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Življenje je lovljenje ravnotežja med odgovornostmi, delom, počitkom in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Vse ima svoje mesto v velikem zemljevidu življenja. Zato se je treba nagraditi s časom za zaba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a te napolni z energijo, ki jo potrebuješ, da se sreča lahko obnav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Zato te prisrčno vabim, da se poveseliš z mano - ob mojem prihajajočem 40. rojstnem dnev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600" spc="-1" strike="noStrike" u="sng">
                  <a:solidFill>
                    <a:srgbClr val="000000"/>
                  </a:solidFill>
                  <a:uFillTx/>
                  <a:latin typeface="Andalus"/>
                  <a:ea typeface="Andalus"/>
                </a:rPr>
                <a:t>dne 23. oktobra 2014 ob 14.10 minu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e dobimo na </a:t>
              </a:r>
              <a:r>
                <a:rPr b="1" i="1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arkirišču za osnovno šolo  </a:t>
              </a: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 skupaj odidemo v nezna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elita Žlajp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cp:lastPrinted>2014-10-02T08:33:03Z</cp:lastPrinted>
  <dcterms:modified xsi:type="dcterms:W3CDTF">2014-10-13T09:18:08Z</dcterms:modified>
  <cp:revision>75</cp:revision>
  <dc:subject/>
  <dc:title>TITLE</dc:title>
</cp:coreProperties>
</file>